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CEA-7F28-4146-92FA-4D4AC11C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944-E9FB-4B75-B3A2-476CD8B5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3D1-2922-4103-AF69-4557D42B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7F1-679B-45FC-AB34-F5111897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EFE-254C-439B-9E23-815D4C63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1DD-025E-4128-BFCE-FEA6956A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3DC-0F74-4420-B2CA-17DB190A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AC5-0990-4B27-8126-2583ED24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684-6CCF-4B26-823C-F9690112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9A2-23C8-4579-A3B5-092085F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AF8-E782-4085-9E79-78AF4E4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DA5-DB20-41FD-92E0-8D49ADFA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C42A-4364-4477-96E0-A1EBE586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796080" cy="133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6705720" cy="126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220968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8487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010280" cy="114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305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543800" cy="176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91520" y="45720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43:18Z</dcterms:created>
  <dc:creator>Graham</dc:creator>
  <dc:description/>
  <dc:language>en-US</dc:language>
  <cp:lastModifiedBy>Graham</cp:lastModifiedBy>
  <dcterms:modified xsi:type="dcterms:W3CDTF">2012-09-30T18:43:33Z</dcterms:modified>
  <cp:revision>1</cp:revision>
  <dc:subject/>
  <dc:title>Slide 1</dc:title>
</cp:coreProperties>
</file>